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0E14-1A48-4DE4-8ED3-134CB20FC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312F-1E50-4FFB-9D12-C57BB35F7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epgreenpermaculture.com/permaculture/permaculture-design-principles/8-accelerating-succession-and-evolu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hortchat.com/info/propagating-kalanc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007E-7567-416A-B186-57F35FAF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229F-C5F4-4B93-B1E6-2E465106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A/AsexualReprodu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r tree image from: http://www.theresiliencyinstitute.net/fruit-tree-graf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DC05-DF2F-4B78-835C-F9AE54076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6F0E-7C11-46A4-8D5A-F54F8DAC9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torontoist.com/2009/07/a_natural_benefit_of_extended_municipal_strik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80B4-C7B4-48D4-9B80-3C4F445F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5E20-8639-4E83-8126-1EC52304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hydroponicsequipment.co/plant-clo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A59A-C0CA-42C4-B63C-FEC752B05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xtremepapers.com/revision/gcse/biology/reproduction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7615-A696-4A21-A8C5-8BF7F8D8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2geneticswikib.wikispaces.com/Sexual+and+Asexual+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8E6-B565-4929-BCC0-4ED0FB86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B8D-3083-45B7-9869-F009FFE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C39-9109-4825-83C1-DF3F25EF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DA4-6604-4367-85FE-9FF08842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2EF-AD06-46BA-A716-EECC7605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C5A-37B8-4352-9922-273D7630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339-9954-40A9-90F1-B479AF7D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777-2679-439D-A947-CBF940E8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4D9-6A80-407E-8496-4B3027AF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65E-7F33-4EF4-AE11-C0A0D965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E01-8AD3-4EE2-868B-7F7760A1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F0C-49EE-4890-BD26-5DC949A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DB82-AE44-47D0-8CFB-B273B719B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TLpc71YOt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1 -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rent plan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less energy &amp;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rental traits are well-suited to environment, offspring will also be well-s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lets survive better than seedlings from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dvantages of Asex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genetic divers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ntire population being wi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t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produce new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f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ranches of trees onto other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ssu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reproduce orchi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2" descr="300x200xprop-kalanchoe-300x200.jpg.pagespeed.ic.TT8zDQ4tvU.jpg"/>
          <p:cNvPicPr/>
          <p:nvPr/>
        </p:nvPicPr>
        <p:blipFill>
          <a:blip r:embed="rId1"/>
          <a:srcRect l="19136" t="0" r="19136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Grafting.gif"/>
          <p:cNvPicPr/>
          <p:nvPr/>
        </p:nvPicPr>
        <p:blipFill>
          <a:blip r:embed="rId1"/>
          <a:srcRect l="0" t="-18691" r="0" b="-18691"/>
          <a:stretch/>
        </p:blipFill>
        <p:spPr>
          <a:xfrm>
            <a:off x="611280" y="549360"/>
            <a:ext cx="3884400" cy="554652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6" descr="dwarf-pear-tree-2-types.jpg"/>
          <p:cNvPicPr/>
          <p:nvPr/>
        </p:nvPicPr>
        <p:blipFill>
          <a:blip r:embed="rId2"/>
          <a:srcRect l="15610" t="0" r="15610" b="0"/>
          <a:stretch/>
        </p:blipFill>
        <p:spPr>
          <a:xfrm>
            <a:off x="4643280" y="549360"/>
            <a:ext cx="381492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is the gradual change in the species composition of an area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s in an area that has no plants, animals, 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oneer 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lic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ion on a lava flow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TLpc71YOt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after a disturbance in an eco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 can be natural (forest fires, floods, etc.) or due to human activity (e.g., deforestation, min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succession to occur in parks, etc., resulting in an increase in biodiversity &amp; a more stabl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6" descr="20090716naturalization.jpg"/>
          <p:cNvPicPr/>
          <p:nvPr/>
        </p:nvPicPr>
        <p:blipFill>
          <a:blip r:embed="rId1"/>
          <a:srcRect l="15278" t="0" r="15278" b="0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exual Reproduction in Seed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 plants reproduce both sexually &amp;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structures on stems, leaves, or roots to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ts grow through mitosis &amp; cell division of existing cells, so offspring are c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asexual_reproduction_in_potato_plants"/>
          <p:cNvPicPr/>
          <p:nvPr/>
        </p:nvPicPr>
        <p:blipFill>
          <a:blip r:embed="rId1"/>
          <a:stretch/>
        </p:blipFill>
        <p:spPr>
          <a:xfrm>
            <a:off x="693720" y="609480"/>
            <a:ext cx="775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Screen_shot_2011-11-30_at_1"/>
          <p:cNvPicPr/>
          <p:nvPr/>
        </p:nvPicPr>
        <p:blipFill>
          <a:blip r:embed="rId1"/>
          <a:stretch/>
        </p:blipFill>
        <p:spPr>
          <a:xfrm>
            <a:off x="685800" y="1554120"/>
            <a:ext cx="77724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1:15:55Z</dcterms:created>
  <dc:creator>rubina khan</dc:creator>
  <dc:description/>
  <dc:language>en-US</dc:language>
  <cp:lastModifiedBy>rubina khan</cp:lastModifiedBy>
  <dcterms:modified xsi:type="dcterms:W3CDTF">2016-03-21T19:18:39Z</dcterms:modified>
  <cp:revision>44</cp:revision>
  <dc:subject/>
  <dc:title>Succession</dc:title>
</cp:coreProperties>
</file>